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6A1C-50A9-4978-99D0-8941E70EA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7B36-2D1E-4102-8972-F9A431BEA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F388-006B-42A4-B3BF-4D7FBCAC6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1C8F-4618-494E-BFBE-D9ACED63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C0021-126F-4DDD-B977-B4E95F719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9729-C8D9-4943-A4B3-0E4A2D3B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65CE-BC57-477C-9C6E-86BB47DBF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1CAA-644C-4FAA-AACA-E58A6D1F5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EF58-CC9D-4605-BAC1-6446E6C38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856C8-6B7D-45F4-B0A6-3C8F41B47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8EDB-5EB7-4E49-AD0C-5FDFA328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D8D7A-F502-4CFD-938C-38532FB43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BE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836E1-37A8-4B90-B3A3-2D9F818BFB59}" type="slidenum">
              <a:rPr b="0" lang="fr-BE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600" y="974880"/>
            <a:ext cx="10079280" cy="566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4400" spc="-1" strike="noStrike">
                <a:solidFill>
                  <a:srgbClr val="000000"/>
                </a:solidFill>
                <a:latin typeface="Arial"/>
              </a:rPr>
              <a:t>OpenSp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86000"/>
          </a:bodyPr>
          <a:p>
            <a:pPr marL="371160" indent="-2782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OOC introductif d'un module en semi présenti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-2782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Extraction et manipulation de données spatiales à l'aide d'outils open source (QGIS et 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-2782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Réalisable en 6 à 8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-2782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Mise en ligne prévue pour mai 20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71160" indent="-2782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3200" spc="-1" strike="noStrike">
                <a:solidFill>
                  <a:srgbClr val="000000"/>
                </a:solidFill>
                <a:latin typeface="Arial"/>
              </a:rPr>
              <a:t>3 partenaires 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78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lg GxAB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78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Montpellier SupAg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2680" indent="-27864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BE" sz="2800" spc="-1" strike="noStrike">
                <a:solidFill>
                  <a:srgbClr val="000000"/>
                </a:solidFill>
                <a:latin typeface="Arial"/>
              </a:rPr>
              <a:t>Université de Lisbo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02T12:08:22Z</dcterms:created>
  <dc:creator>Yves Brostaux</dc:creator>
  <dc:description/>
  <dc:language>en-US</dc:language>
  <cp:lastModifiedBy>Yves Brostaux</cp:lastModifiedBy>
  <dcterms:modified xsi:type="dcterms:W3CDTF">2016-12-02T12:14:37Z</dcterms:modified>
  <cp:revision>1</cp:revision>
  <dc:subject/>
  <dc:title/>
</cp:coreProperties>
</file>